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8FA-107D-40FB-8F75-6A93FFAE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798-45A4-4BA2-84E1-54628984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DED-6D4C-4DA9-A618-F3686537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2E2-D9D9-49AB-803C-D5A7A457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27323-E23A-45B8-B3C5-5EFF5986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ACD0-507C-41B6-B3BB-199F4CED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76C85-70F4-4BCF-94F3-483D010C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15E5D-CCC1-43E4-B8B9-79AB22D9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38E84-DC3A-41C0-A196-3882174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F428D-9168-4764-BEAD-295C5B62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CE4D2-9FA5-4632-AE62-2060DD7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566-A37A-43DE-A1D5-FAF0F16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DC73A-963F-4964-BF98-9591FC2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377AE-EB32-411B-A388-FBDCEDA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DD0A3-8C6C-449E-9C7C-B941CE56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44748-901C-43E3-9680-A2640530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F3449-CFB7-4E51-9F31-DCB8D9DE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9C1-5DF5-4864-B8C5-CDC530D4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2D2-156C-48EA-8BA1-B36B6FAB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4F0-1F97-4D7C-9877-6B704FB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9A-2543-4081-8F18-3A9DFE6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827-416D-4E81-9ED7-A0B80BC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E06-58BF-432D-AC07-CEC0C74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572-8F7B-4E1A-9152-868B19A9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20B7-FC35-4F44-B9CE-A0130A2704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B8FB-C482-4016-BC7E-FE25463AC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28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9:1  - 20: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jah Flees to Mount Hore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19:1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b tells Jezebel what Elijah had done; she is enraged, and threatens to take away his life, v. 1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leaves Jezreel, and comes to Beer-sheba, and thence to the wilderness, where he is fed and encouraged by an angel, v. 3-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complaint, and the vision by which God instructs him, v. 10-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sent to Damascus, in order to anoint Hazael king over Syria, and Jehu king over Israel, v. 15-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791320" y="1255680"/>
            <a:ext cx="3124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jah went back to where the covenant had been made, Mt. Horeb – where Moses talked to God, and where God made His covenant with Isra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is map shows, the site of Mt. Sinai (Horeb) has long been an issue of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10080" y="47242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Arial"/>
              </a:rPr>
              <a:t>Notice the various roads of possible travel for Elij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sha, The Success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9:19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 and Elisha M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sha becomes Elijah’s attend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ng the cloak or man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amaria is attacked by the Syria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Kings 20:1-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-hadad, king of Syria, and thirty-two kings, besiege Samaria, v.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ends an insulting message to Ahab, and insists on pillaging the whole city, v. 2-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lders of Israel counsel the king not to submit to such shameful conditions, v.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ends a refusal to Ben-hadad; who, being enraged, vows revenge, v. 9-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phet comes to Ahab, and promises him victory, and gives him directions how he should order the battle, v. 13-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yrians are defeated, and Ben-hadad barely escapes, v. 20-2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d’s Help To Isra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ot to give approval to Ahab or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o confirm once more “that you may know that I am the Lor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God could handle the Syrians and bring about their defeat, He could also do the same to the rebellious Israelites at any time He cho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3:37:06Z</dcterms:created>
  <dc:creator>Terry W. Benton</dc:creator>
  <dc:description/>
  <dc:language>en-US</dc:language>
  <cp:lastModifiedBy>Frank D Vines</cp:lastModifiedBy>
  <dcterms:modified xsi:type="dcterms:W3CDTF">2005-07-22T20:50:49Z</dcterms:modified>
  <cp:revision>2</cp:revision>
  <dc:subject/>
  <dc:title>Till There Was No Remedy (The Divided Kingdom)</dc:title>
</cp:coreProperties>
</file>